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存储一个年级的成绩</a:t>
            </a:r>
            <a:endParaRPr b="0" lang="en-US" sz="13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C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Heiti SC Light"/>
              </a:rPr>
              <a:t>语言允许使用多维数组。</a:t>
            </a:r>
            <a:endParaRPr b="0" lang="en-US" sz="13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eiti SC Light"/>
              </a:rPr>
              <a:t>数组：将相同数据类型数据放在一起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eiti SC Light"/>
              </a:rPr>
              <a:t>结构体：将不同数据类型数据存放在一起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eiti SC Light"/>
              </a:rPr>
              <a:t>前几章使用的都是属于基本类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eiti SC Light"/>
              </a:rPr>
              <a:t>整型、字符型、实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eiti SC Light"/>
              </a:rPr>
              <a:t>的数据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eiti SC Light"/>
              </a:rPr>
              <a:t>语言还提供了构造类型的数据，它们有数组类型、结构体类型和共用体类型。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Heiti SC Light"/>
              </a:rPr>
              <a:t>不指定数组元素个数，会报错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  <a:ea typeface="Heiti SC Light"/>
              </a:rPr>
              <a:t>Fibonacci</a:t>
            </a:r>
            <a:r>
              <a:rPr b="0" lang="zh-CN" sz="2200" spc="-1" strike="noStrike">
                <a:solidFill>
                  <a:srgbClr val="000000"/>
                </a:solidFill>
                <a:latin typeface="Chalkboard"/>
                <a:ea typeface="Heiti SC Light"/>
              </a:rPr>
              <a:t>数列</a:t>
            </a:r>
            <a:endParaRPr b="0" lang="en-US" sz="2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6052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90512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34936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349360" indent="-571320">
              <a:spcBef>
                <a:spcPts val="9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349360" indent="-571320">
              <a:spcBef>
                <a:spcPts val="9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十一章：结构类型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程序结果是什么？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5" name=""/>
          <p:cNvSpPr/>
          <p:nvPr/>
        </p:nvSpPr>
        <p:spPr>
          <a:xfrm>
            <a:off x="2057400" y="3308400"/>
            <a:ext cx="887724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[2]={1,2,3}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0;i&lt;3;i++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i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a[i]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二维数组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7" name=""/>
          <p:cNvSpPr/>
          <p:nvPr/>
        </p:nvSpPr>
        <p:spPr>
          <a:xfrm>
            <a:off x="1320840" y="2406600"/>
            <a:ext cx="1035036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二维数组定义的形式为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类型说明符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数组名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常量表达式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][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常量表达式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例如：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a[3][4], b[5][10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二维数组可被看作是一种特殊的一维数组：它的元素又是一个一维数组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二维数组中元素排列的顺序是按行存放的。即在内存中先顺序存放第一行的元素，再存放第二行的元素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二维数组的初始化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9" name=""/>
          <p:cNvSpPr/>
          <p:nvPr/>
        </p:nvSpPr>
        <p:spPr>
          <a:xfrm>
            <a:off x="558720" y="3956040"/>
            <a:ext cx="1187460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用下面的方法对二维数组初始化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将所有数据写在一个花括号内，按数组排列的顺序对各元素赋初值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对部分元素赋初值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二维数组的引用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1" name=""/>
          <p:cNvSpPr/>
          <p:nvPr/>
        </p:nvSpPr>
        <p:spPr>
          <a:xfrm>
            <a:off x="1270080" y="2787480"/>
            <a:ext cx="1046484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二维数组元素的表示形式为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数组名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下标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][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下标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例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[2][3]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下标可以是整型表达式，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[2-1][2*2-1]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数组元素可以出现在表达式中，也可以被赋值。例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[1][2]=a[2][3]/2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下标值应在已定义的数组大小的范围内。常出现的错误是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a[3][4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[3][4]=3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结构体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3" name=""/>
          <p:cNvSpPr/>
          <p:nvPr/>
        </p:nvSpPr>
        <p:spPr>
          <a:xfrm>
            <a:off x="723960" y="3003480"/>
            <a:ext cx="11544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我们已介绍了基本类型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或称简单类型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的变量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如整型、实型、字符型变量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，也介绍了一种构造类型数据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数组，数组中的各元素是属于同一个类型的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但是只有这些数据类型是不够的。有时需要将不同类型的数据组合成一个有机的整体，以便于引用。这些组合在一个整体中的数据是相互联系的。应当把它们组织成一个组合项，在一个组合项中包含若干个类型不同的数据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当然也可以相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言允许用户自己指定这样一种数据结构，它称为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结构体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结构体定义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5" name=""/>
          <p:cNvSpPr/>
          <p:nvPr/>
        </p:nvSpPr>
        <p:spPr>
          <a:xfrm>
            <a:off x="647640" y="3016080"/>
            <a:ext cx="116967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声明一个结构体类型的一般形式为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uct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结构体名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成员列表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}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结构体名”用作结构体类型的标志。大括弧内是该结构体中的各个成员，由它们组成一个结构体。对各成员都应进行类型声明，即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类型名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成员名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成员名定名规则与变量名相同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800" spc="-1" strike="noStrike">
                <a:solidFill>
                  <a:srgbClr val="626053"/>
                </a:solidFill>
                <a:latin typeface="Baskerville"/>
                <a:ea typeface="华文宋体"/>
              </a:rPr>
              <a:t>结构体定义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1155600" y="2387520"/>
          <a:ext cx="10693440" cy="1181160"/>
        </p:xfrm>
        <a:graphic>
          <a:graphicData uri="http://schemas.openxmlformats.org/drawingml/2006/table">
            <a:tbl>
              <a:tblPr/>
              <a:tblGrid>
                <a:gridCol w="1782000"/>
                <a:gridCol w="1782360"/>
                <a:gridCol w="1782000"/>
                <a:gridCol w="1782360"/>
                <a:gridCol w="1782360"/>
                <a:gridCol w="1782360"/>
              </a:tblGrid>
              <a:tr h="590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c68"/>
                          </a:solidFill>
                          <a:latin typeface="Hoefler Text"/>
                          <a:ea typeface="华文宋体"/>
                        </a:rPr>
                        <a:t>n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c68"/>
                          </a:solidFill>
                          <a:latin typeface="Hoefler Text"/>
                          <a:ea typeface="华文宋体"/>
                        </a:rPr>
                        <a:t>na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c68"/>
                          </a:solidFill>
                          <a:latin typeface="Hoefler Text"/>
                          <a:ea typeface="华文宋体"/>
                        </a:rPr>
                        <a:t>s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c68"/>
                          </a:solidFill>
                          <a:latin typeface="Hoefler Text"/>
                          <a:ea typeface="华文宋体"/>
                        </a:rPr>
                        <a:t>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c68"/>
                          </a:solidFill>
                          <a:latin typeface="Hoefler Text"/>
                          <a:ea typeface="华文宋体"/>
                        </a:rPr>
                        <a:t>sco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c68"/>
                          </a:solidFill>
                          <a:latin typeface="Hoefler Text"/>
                          <a:ea typeface="华文宋体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590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26053"/>
                          </a:solidFill>
                          <a:latin typeface="Hoefler Text"/>
                          <a:ea typeface="华文宋体"/>
                        </a:rPr>
                        <a:t>10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26053"/>
                          </a:solidFill>
                          <a:latin typeface="Hoefler Text"/>
                          <a:ea typeface="华文宋体"/>
                        </a:rPr>
                        <a:t>LI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26053"/>
                          </a:solidFill>
                          <a:latin typeface="Hoefler Text"/>
                          <a:ea typeface="华文宋体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26053"/>
                          </a:solidFill>
                          <a:latin typeface="Hoefler Text"/>
                          <a:ea typeface="华文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26053"/>
                          </a:solidFill>
                          <a:latin typeface="Hoefler Text"/>
                          <a:ea typeface="华文宋体"/>
                        </a:rPr>
                        <a:t>87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26053"/>
                          </a:solidFill>
                          <a:latin typeface="Hoefler Text"/>
                          <a:ea typeface="华文宋体"/>
                        </a:rPr>
                        <a:t>Beij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50760" marR="50760">
                    <a:lnL w="5760">
                      <a:solidFill>
                        <a:srgbClr val="6a6f72"/>
                      </a:solidFill>
                    </a:lnL>
                    <a:lnR w="5760">
                      <a:solidFill>
                        <a:srgbClr val="6a6f72"/>
                      </a:solidFill>
                    </a:lnR>
                    <a:lnT w="5760">
                      <a:solidFill>
                        <a:srgbClr val="6a6f72"/>
                      </a:solidFill>
                    </a:lnT>
                    <a:lnB w="5760">
                      <a:solidFill>
                        <a:srgbClr val="6a6f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8" name=""/>
          <p:cNvSpPr/>
          <p:nvPr/>
        </p:nvSpPr>
        <p:spPr>
          <a:xfrm>
            <a:off x="4968000" y="4164120"/>
            <a:ext cx="30812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struct</a:t>
            </a: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student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2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num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NSString *name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2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sex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2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ge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24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loat</a:t>
            </a: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score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NSString *address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定义结构体类型变量的方法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0" name=""/>
          <p:cNvSpPr/>
          <p:nvPr/>
        </p:nvSpPr>
        <p:spPr>
          <a:xfrm>
            <a:off x="927000" y="2432160"/>
            <a:ext cx="1115064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前面只是指定了一个结构体类型，它相当于一个模型，但其中并无具体数据，系统对之也不分配实际内存单元。为了能在程序中使用结构体类型的数据，应当定义结构体类型的变量，并在其中存放具体的数据。可以采取以下三种方法定义结构体类型变量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先声明结构体类型再定义变量名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在声明类型的同时定义变量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直接定义结构体类型变量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2" name=""/>
          <p:cNvSpPr/>
          <p:nvPr/>
        </p:nvSpPr>
        <p:spPr>
          <a:xfrm>
            <a:off x="1206360" y="2565360"/>
            <a:ext cx="105793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类型与变量是不同的概念，不要混同。只能对变量赋值、存取或运算，而不能对一个类型赋值、存取或运算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对结构体中的成员可以单独使用，它的作用与地位相当于普通变量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成员也可以是一个结构体变量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成员名可以与程序中的变量名相同，二者不代表同一对象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结构体变量的引用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4" name=""/>
          <p:cNvSpPr/>
          <p:nvPr/>
        </p:nvSpPr>
        <p:spPr>
          <a:xfrm>
            <a:off x="1104840" y="2368440"/>
            <a:ext cx="10782360" cy="68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在定义了结构体变量以后，当然可以引用这个变量。但应遵守以下规则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不能将一个结构体变量作为一个整体进行输入和输出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如果成员本身又属一个结构体类型，则要用若干个成员运算符，一级一级地找到最低的一级的成员。只能对最低级的成员进行赋值或存取以及运算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对结构体变量的成员可以像普通变量一样进行各种运算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根据其类型决定可以进行的运算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引用结构体变量成员的地址，也可以引用结构体变量的地址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1955880" y="1827360"/>
            <a:ext cx="9080280" cy="54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结构体变量的初始化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6" name=""/>
          <p:cNvSpPr/>
          <p:nvPr/>
        </p:nvSpPr>
        <p:spPr>
          <a:xfrm>
            <a:off x="1270080" y="2603520"/>
            <a:ext cx="104648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和其他类型变量一样，对结构体变量可以在定义时指定初始值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共同体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8" name=""/>
          <p:cNvSpPr/>
          <p:nvPr/>
        </p:nvSpPr>
        <p:spPr>
          <a:xfrm>
            <a:off x="825480" y="2120760"/>
            <a:ext cx="11353680" cy="68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有时需要使几种不同类型的变量存放到同一段内存单元中。例如，可把一个整型变量、一个字符型变量、一个实型变量放在同一地址开始的内存单元中。以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个变量在内存中占的字节数不同，但都从同一地址开始。也就是使用覆盖技术，几个变量互相覆盖。这种使几个不同的变量共占同一段内存的结构，称为“共用体”类型的结构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定义共用体类型变量的一般形式为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ion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共用体名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成员表列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}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Heiti SC Light"/>
              </a:rPr>
              <a:t>变量表列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共同体的引用方式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0" name=""/>
          <p:cNvSpPr/>
          <p:nvPr/>
        </p:nvSpPr>
        <p:spPr>
          <a:xfrm>
            <a:off x="1117440" y="2629080"/>
            <a:ext cx="10464840" cy="17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只有先定义了共用体变量才能引用它。而且不能引用共用体变量，而只能引用共用体变量中的成员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共同体类型数据的特点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2" name=""/>
          <p:cNvSpPr/>
          <p:nvPr/>
        </p:nvSpPr>
        <p:spPr>
          <a:xfrm>
            <a:off x="1270080" y="2374920"/>
            <a:ext cx="10464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同一个内存段可以用来存放几种不同类型的成员，但在每一瞬时只能存放其中一种，而不是同时存放几种。也就是说，每一瞬时只有一个成员起作用，其他成员不起作用，即不是同时都存在和起作用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共用体变量中起作用的成员是最后一次存放的成员，在存入一个新的成员后原有的成员就失去作用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共用体变量的地址和它的各成员的地址都是同一地址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共同体类型数据的特点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4" name=""/>
          <p:cNvSpPr/>
          <p:nvPr/>
        </p:nvSpPr>
        <p:spPr>
          <a:xfrm>
            <a:off x="1308240" y="2641680"/>
            <a:ext cx="103759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不能对共用体变量名赋值，也不能企图引用变量名来得到一个值，又不能在定义共用体变量时对它初始化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不能把共用体变量作为函数参数，也不能使函数带回共用体变量，但可以使用指向共用体变量的指针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共用体类型可以出现在结构体类型定义中，也可以定义共用体数组。反之，结构体也可以出现在共用体类型定义中，数组也可以作为共用体的成员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枚举类型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6" name=""/>
          <p:cNvSpPr/>
          <p:nvPr/>
        </p:nvSpPr>
        <p:spPr>
          <a:xfrm>
            <a:off x="1359000" y="2590920"/>
            <a:ext cx="102740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如果一个变量只有几种可能的值，可以定义为枚举类型。所谓“枚举”是指将变量的值一一列举出来，变量的值只限于列举出来的值的范围内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8" name=""/>
          <p:cNvSpPr/>
          <p:nvPr/>
        </p:nvSpPr>
        <p:spPr>
          <a:xfrm>
            <a:off x="876240" y="2997360"/>
            <a:ext cx="112395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编译中，对枚举元素按常量处理，故称枚举常量。它们不是变量，不能对它们赋值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枚举元素作为常量，它们是有值的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语言编译按定义时的顺序使它们的值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枚举值可以用来做判断比较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一个整数不能直接赋给一个枚举变量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14]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口袋中有红、黄、蓝、白、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种颜色的球各一个。每次从口袋中先后取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个球，问得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种不同色的球的可能取法，输出每种排列的情况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用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typedef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定义类型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0" name=""/>
          <p:cNvSpPr/>
          <p:nvPr/>
        </p:nvSpPr>
        <p:spPr>
          <a:xfrm>
            <a:off x="1155600" y="2685960"/>
            <a:ext cx="10680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除了可以直接使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提供的标准类型名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和自己声明的结构体、共用体、指针、枚举类型外，还可以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声明新的类型名来代替已有的类型名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2" name=""/>
          <p:cNvSpPr/>
          <p:nvPr/>
        </p:nvSpPr>
        <p:spPr>
          <a:xfrm>
            <a:off x="812880" y="2152800"/>
            <a:ext cx="11366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声明各种类型名，但不能用来定义变量。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声明数组类型、字符串类型，使用比较方便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只是对已经存在的类型增加一个类型名，而没有创造新的类型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typedef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与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有相似之处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当不同源文件中用到同一类型数据时，常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声明一些数据类型，把它们单独放在一个文件中，然后再需要用到它们的文件中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命令把它们包含进来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使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用利于程序的通用与移植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数组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1" name=""/>
          <p:cNvSpPr/>
          <p:nvPr/>
        </p:nvSpPr>
        <p:spPr>
          <a:xfrm>
            <a:off x="1028880" y="2851200"/>
            <a:ext cx="109472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数组是有序数据的集合。数组中的每一个元素都属于同一个数据类型。用一个统一的数组名和下标来惟一地确定数组中的元素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定义方式为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类型说明符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数组名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Heiti SC Light"/>
              </a:rPr>
              <a:t>常量表达式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例如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int a[10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3" name=""/>
          <p:cNvSpPr/>
          <p:nvPr/>
        </p:nvSpPr>
        <p:spPr>
          <a:xfrm>
            <a:off x="825480" y="2419200"/>
            <a:ext cx="1135368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数组名的命名规则和变量名相同，遵循标识符命名规则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在定义数组时，需要指定数组中元素的个数，方括号中的常量表达式用来表示元素的个数，即数组长度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常量表达式中可以包括常量和符号常量，不能包含变量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语言不允许对数组的大小作动态定义，即数组的大小不依赖于程序运行过程中变量的值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数组定义是否合法？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t a[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t i = 3;  int a[i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t 3d[10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t _c[3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t b[2+1]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t i = 3; int b[i+3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数组的初始化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7" name=""/>
          <p:cNvSpPr/>
          <p:nvPr/>
        </p:nvSpPr>
        <p:spPr>
          <a:xfrm>
            <a:off x="1143000" y="3562200"/>
            <a:ext cx="1070604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对数组元素的初始化可以用以下方式实现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在定义数组时对数组元素赋予初值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eiti SC Light"/>
              </a:rPr>
              <a:t>可以只给一部分元素赋值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数组的引用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9" name=""/>
          <p:cNvSpPr/>
          <p:nvPr/>
        </p:nvSpPr>
        <p:spPr>
          <a:xfrm>
            <a:off x="1270080" y="3022560"/>
            <a:ext cx="1046484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数组必须先定义，然后使用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数组元素的表示形式为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数组名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eiti SC Light"/>
              </a:rPr>
              <a:t>下标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eiti SC Light"/>
              </a:rPr>
              <a:t>下标可以是整型常量或整型表达式。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数组元素的引用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1" name=""/>
          <p:cNvSpPr/>
          <p:nvPr/>
        </p:nvSpPr>
        <p:spPr>
          <a:xfrm>
            <a:off x="1701720" y="2641680"/>
            <a:ext cx="95886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[10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0;i&lt;=9;i++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a[i]=i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9;i&gt;=0;i--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a[i]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程序结果是什么？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3" name=""/>
          <p:cNvSpPr/>
          <p:nvPr/>
        </p:nvSpPr>
        <p:spPr>
          <a:xfrm>
            <a:off x="1270080" y="2844720"/>
            <a:ext cx="1046484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f[20] = {1,1}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2;i&lt;20;i++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f[i] = f[i-2]+f[i-1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j=0;j&lt;20;j++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f[j]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